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613-1AA3-4767-94F6-C4546A5F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062-D50D-4346-98FD-B2B39E2B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ABA-2606-44A7-902B-96C84C0F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ABE-0233-4F22-AC02-F708A74A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CDE-672D-476E-A94D-FBD1EF25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E0F-84BE-4102-9742-5C41A81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7BB-40D3-4A6E-B93F-C1F531E1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98B-6296-4A16-9BC1-7024E083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C22-115F-4E32-87E1-3873939C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C91-E734-4415-8F85-7D7C6AE8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7D0-9C7F-414B-89D1-F53498C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DF1-64FF-4871-AE8D-0BB19919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A377-D720-4279-A617-5873431C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7200" y="6120"/>
              <a:ext cx="6842520" cy="9130680"/>
              <a:chOff x="7200" y="6120"/>
              <a:chExt cx="6842520" cy="91306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7200" y="6120"/>
                <a:ext cx="2731320" cy="1059840"/>
                <a:chOff x="7200" y="6120"/>
                <a:chExt cx="2731320" cy="10598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8960" y="6120"/>
                  <a:ext cx="2646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200" y="6120"/>
                  <a:ext cx="273132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738520" y="6120"/>
                <a:ext cx="309600" cy="1059840"/>
                <a:chOff x="2738520" y="6120"/>
                <a:chExt cx="309600" cy="10598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78028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73852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3048480" y="6120"/>
                <a:ext cx="309600" cy="1059840"/>
                <a:chOff x="3048480" y="6120"/>
                <a:chExt cx="309600" cy="10598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9060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0484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358440" y="6120"/>
                <a:ext cx="309960" cy="1059840"/>
                <a:chOff x="3358440" y="6120"/>
                <a:chExt cx="309960" cy="1059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4005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3584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668400" y="6120"/>
                <a:ext cx="309600" cy="1059840"/>
                <a:chOff x="3668400" y="6120"/>
                <a:chExt cx="309600" cy="10598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71016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66840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978360" y="6120"/>
                <a:ext cx="309960" cy="1059840"/>
                <a:chOff x="3978360" y="6120"/>
                <a:chExt cx="309960" cy="10598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02048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97836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88680" y="6120"/>
                <a:ext cx="309600" cy="1059840"/>
                <a:chOff x="4288680" y="6120"/>
                <a:chExt cx="309600" cy="10598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3044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886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598640" y="6120"/>
                <a:ext cx="309600" cy="1059840"/>
                <a:chOff x="4598640" y="6120"/>
                <a:chExt cx="309600" cy="10598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6407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5986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908240" y="6120"/>
                <a:ext cx="309960" cy="1059840"/>
                <a:chOff x="4908240" y="6120"/>
                <a:chExt cx="309960" cy="10598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9503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9082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218560" y="6120"/>
                <a:ext cx="309600" cy="1059840"/>
                <a:chOff x="5218560" y="6120"/>
                <a:chExt cx="309600" cy="10598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26032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1856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528520" y="6120"/>
                <a:ext cx="309960" cy="1059840"/>
                <a:chOff x="5528520" y="6120"/>
                <a:chExt cx="309960" cy="1059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57064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52852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838840" y="6120"/>
                <a:ext cx="309600" cy="1059840"/>
                <a:chOff x="5838840" y="6120"/>
                <a:chExt cx="309600" cy="10598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88060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8388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148440" y="6120"/>
                <a:ext cx="701280" cy="1059840"/>
                <a:chOff x="6148440" y="6120"/>
                <a:chExt cx="701280" cy="10598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190560" y="6120"/>
                  <a:ext cx="61668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148440" y="6120"/>
                  <a:ext cx="70128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200" y="1065960"/>
                <a:ext cx="2731320" cy="648000"/>
                <a:chOff x="7200" y="1065960"/>
                <a:chExt cx="2731320" cy="648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8960" y="1065960"/>
                  <a:ext cx="2646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200" y="1065960"/>
                  <a:ext cx="273132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738520" y="1065960"/>
                <a:ext cx="309600" cy="648000"/>
                <a:chOff x="2738520" y="1065960"/>
                <a:chExt cx="309600" cy="648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78028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73852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048480" y="1065960"/>
                <a:ext cx="309600" cy="648000"/>
                <a:chOff x="3048480" y="1065960"/>
                <a:chExt cx="309600" cy="6480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9060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0484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358440" y="1065960"/>
                <a:ext cx="309960" cy="648000"/>
                <a:chOff x="3358440" y="1065960"/>
                <a:chExt cx="309960" cy="648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4005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584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668400" y="1065960"/>
                <a:ext cx="309600" cy="648000"/>
                <a:chOff x="3668400" y="1065960"/>
                <a:chExt cx="309600" cy="648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71016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66840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78360" y="1065960"/>
                <a:ext cx="309960" cy="648000"/>
                <a:chOff x="3978360" y="1065960"/>
                <a:chExt cx="309960" cy="648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02048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7836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288680" y="1065960"/>
                <a:ext cx="309600" cy="648000"/>
                <a:chOff x="4288680" y="1065960"/>
                <a:chExt cx="309600" cy="648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3044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886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598640" y="1065960"/>
                <a:ext cx="309600" cy="648000"/>
                <a:chOff x="4598640" y="1065960"/>
                <a:chExt cx="309600" cy="648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6407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5986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908240" y="1065960"/>
                <a:ext cx="309960" cy="648000"/>
                <a:chOff x="4908240" y="1065960"/>
                <a:chExt cx="309960" cy="64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9503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9082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218560" y="1065960"/>
                <a:ext cx="309600" cy="648000"/>
                <a:chOff x="5218560" y="1065960"/>
                <a:chExt cx="309600" cy="648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26032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21856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528520" y="1065960"/>
                <a:ext cx="309960" cy="648000"/>
                <a:chOff x="5528520" y="1065960"/>
                <a:chExt cx="309960" cy="648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57064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52852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838840" y="1065960"/>
                <a:ext cx="309600" cy="648000"/>
                <a:chOff x="5838840" y="1065960"/>
                <a:chExt cx="309600" cy="648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88060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388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148440" y="1065960"/>
                <a:ext cx="701280" cy="648000"/>
                <a:chOff x="6148440" y="1065960"/>
                <a:chExt cx="701280" cy="648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90560" y="1065960"/>
                  <a:ext cx="61668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148440" y="1065960"/>
                  <a:ext cx="70128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200" y="1713960"/>
                <a:ext cx="2731320" cy="510120"/>
                <a:chOff x="7200" y="1713960"/>
                <a:chExt cx="2731320" cy="510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8960" y="17139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00" y="17139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738520" y="1713960"/>
                <a:ext cx="309600" cy="510120"/>
                <a:chOff x="2738520" y="1713960"/>
                <a:chExt cx="309600" cy="510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78028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73852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048480" y="1713960"/>
                <a:ext cx="309600" cy="510120"/>
                <a:chOff x="3048480" y="1713960"/>
                <a:chExt cx="309600" cy="510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9060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84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358440" y="1713960"/>
                <a:ext cx="309960" cy="510120"/>
                <a:chOff x="3358440" y="1713960"/>
                <a:chExt cx="309960" cy="510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4005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3584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668400" y="1713960"/>
                <a:ext cx="309600" cy="510120"/>
                <a:chOff x="3668400" y="1713960"/>
                <a:chExt cx="309600" cy="510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71016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66840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978360" y="1713960"/>
                <a:ext cx="309960" cy="510120"/>
                <a:chOff x="3978360" y="1713960"/>
                <a:chExt cx="309960" cy="510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02048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7836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288680" y="1713960"/>
                <a:ext cx="309600" cy="510120"/>
                <a:chOff x="4288680" y="1713960"/>
                <a:chExt cx="309600" cy="510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3044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886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598640" y="1713960"/>
                <a:ext cx="309600" cy="510120"/>
                <a:chOff x="4598640" y="1713960"/>
                <a:chExt cx="309600" cy="510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6407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986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908240" y="1713960"/>
                <a:ext cx="309960" cy="510120"/>
                <a:chOff x="4908240" y="1713960"/>
                <a:chExt cx="309960" cy="510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9503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9082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218560" y="1713960"/>
                <a:ext cx="309600" cy="510120"/>
                <a:chOff x="5218560" y="1713960"/>
                <a:chExt cx="309600" cy="510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26032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1856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28520" y="1713960"/>
                <a:ext cx="309960" cy="510120"/>
                <a:chOff x="5528520" y="1713960"/>
                <a:chExt cx="309960" cy="510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57064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2852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38840" y="1713960"/>
                <a:ext cx="309600" cy="510120"/>
                <a:chOff x="5838840" y="1713960"/>
                <a:chExt cx="309600" cy="510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88060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388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148440" y="1713960"/>
                <a:ext cx="701280" cy="510120"/>
                <a:chOff x="6148440" y="1713960"/>
                <a:chExt cx="701280" cy="510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190560" y="17139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148440" y="17139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200" y="2224440"/>
                <a:ext cx="2731320" cy="510480"/>
                <a:chOff x="7200" y="2224440"/>
                <a:chExt cx="2731320" cy="510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960" y="22244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200" y="22244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738520" y="2224440"/>
                <a:ext cx="309600" cy="510480"/>
                <a:chOff x="2738520" y="2224440"/>
                <a:chExt cx="309600" cy="510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78028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73852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048480" y="2224440"/>
                <a:ext cx="309600" cy="510480"/>
                <a:chOff x="3048480" y="2224440"/>
                <a:chExt cx="309600" cy="510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9060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484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358440" y="2224440"/>
                <a:ext cx="309960" cy="510480"/>
                <a:chOff x="3358440" y="2224440"/>
                <a:chExt cx="309960" cy="510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4005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3584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68400" y="2224440"/>
                <a:ext cx="309600" cy="510480"/>
                <a:chOff x="3668400" y="2224440"/>
                <a:chExt cx="309600" cy="510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1016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6840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978360" y="2224440"/>
                <a:ext cx="309960" cy="510480"/>
                <a:chOff x="3978360" y="2224440"/>
                <a:chExt cx="309960" cy="5104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02048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97836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288680" y="2224440"/>
                <a:ext cx="309600" cy="510480"/>
                <a:chOff x="4288680" y="2224440"/>
                <a:chExt cx="309600" cy="510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33044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2886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598640" y="2224440"/>
                <a:ext cx="309600" cy="510480"/>
                <a:chOff x="4598640" y="2224440"/>
                <a:chExt cx="309600" cy="510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6407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986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908240" y="2224440"/>
                <a:ext cx="309960" cy="510480"/>
                <a:chOff x="4908240" y="2224440"/>
                <a:chExt cx="309960" cy="5104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9503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9082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218560" y="2224440"/>
                <a:ext cx="309600" cy="510480"/>
                <a:chOff x="5218560" y="2224440"/>
                <a:chExt cx="309600" cy="5104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26032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1856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28520" y="2224440"/>
                <a:ext cx="309960" cy="510480"/>
                <a:chOff x="5528520" y="2224440"/>
                <a:chExt cx="309960" cy="510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7064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2852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838840" y="2224440"/>
                <a:ext cx="309600" cy="510480"/>
                <a:chOff x="5838840" y="2224440"/>
                <a:chExt cx="309600" cy="5104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8060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8388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48440" y="2224440"/>
                <a:ext cx="701280" cy="510480"/>
                <a:chOff x="6148440" y="2224440"/>
                <a:chExt cx="701280" cy="510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90560" y="22244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48440" y="22244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200" y="2735280"/>
                <a:ext cx="2731320" cy="510120"/>
                <a:chOff x="7200" y="2735280"/>
                <a:chExt cx="2731320" cy="510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8960" y="27352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00" y="27352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738520" y="2735280"/>
                <a:ext cx="309600" cy="510120"/>
                <a:chOff x="2738520" y="2735280"/>
                <a:chExt cx="309600" cy="5101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78028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73852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048480" y="2735280"/>
                <a:ext cx="309600" cy="510120"/>
                <a:chOff x="3048480" y="2735280"/>
                <a:chExt cx="309600" cy="510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9060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0484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358440" y="2735280"/>
                <a:ext cx="309960" cy="510120"/>
                <a:chOff x="3358440" y="2735280"/>
                <a:chExt cx="309960" cy="510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4005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3584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668400" y="2735280"/>
                <a:ext cx="309600" cy="510120"/>
                <a:chOff x="3668400" y="2735280"/>
                <a:chExt cx="309600" cy="510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71016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66840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978360" y="2735280"/>
                <a:ext cx="309960" cy="510120"/>
                <a:chOff x="3978360" y="2735280"/>
                <a:chExt cx="309960" cy="5101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02048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97836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288680" y="2735280"/>
                <a:ext cx="309600" cy="510120"/>
                <a:chOff x="4288680" y="2735280"/>
                <a:chExt cx="309600" cy="5101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33044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2886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598640" y="2735280"/>
                <a:ext cx="309600" cy="510120"/>
                <a:chOff x="4598640" y="2735280"/>
                <a:chExt cx="309600" cy="510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6407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986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908240" y="2735280"/>
                <a:ext cx="309960" cy="510120"/>
                <a:chOff x="4908240" y="2735280"/>
                <a:chExt cx="309960" cy="5101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9503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082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218560" y="2735280"/>
                <a:ext cx="309600" cy="510120"/>
                <a:chOff x="5218560" y="2735280"/>
                <a:chExt cx="309600" cy="510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26032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1856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8520" y="2735280"/>
                <a:ext cx="309960" cy="510120"/>
                <a:chOff x="5528520" y="2735280"/>
                <a:chExt cx="309960" cy="510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57064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52852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838840" y="2735280"/>
                <a:ext cx="309600" cy="510120"/>
                <a:chOff x="5838840" y="2735280"/>
                <a:chExt cx="309600" cy="5101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88060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8388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6148440" y="2735280"/>
                <a:ext cx="701280" cy="510120"/>
                <a:chOff x="6148440" y="2735280"/>
                <a:chExt cx="701280" cy="510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190560" y="27352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48440" y="27352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200" y="3245760"/>
                <a:ext cx="2731320" cy="510480"/>
                <a:chOff x="7200" y="3245760"/>
                <a:chExt cx="2731320" cy="510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8960" y="32457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00" y="32457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738520" y="3245760"/>
                <a:ext cx="309600" cy="510480"/>
                <a:chOff x="2738520" y="3245760"/>
                <a:chExt cx="309600" cy="5104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78028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73852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048480" y="3245760"/>
                <a:ext cx="309600" cy="510480"/>
                <a:chOff x="3048480" y="3245760"/>
                <a:chExt cx="309600" cy="510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9060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0484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358440" y="3245760"/>
                <a:ext cx="309960" cy="510480"/>
                <a:chOff x="3358440" y="3245760"/>
                <a:chExt cx="309960" cy="510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4005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3584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668400" y="3245760"/>
                <a:ext cx="309600" cy="510480"/>
                <a:chOff x="3668400" y="3245760"/>
                <a:chExt cx="309600" cy="5104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71016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66840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978360" y="3245760"/>
                <a:ext cx="309960" cy="510480"/>
                <a:chOff x="3978360" y="3245760"/>
                <a:chExt cx="309960" cy="5104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02048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7836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288680" y="3245760"/>
                <a:ext cx="309600" cy="510480"/>
                <a:chOff x="4288680" y="3245760"/>
                <a:chExt cx="309600" cy="510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33044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2886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598640" y="3245760"/>
                <a:ext cx="309600" cy="510480"/>
                <a:chOff x="4598640" y="3245760"/>
                <a:chExt cx="309600" cy="510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6407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986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908240" y="3245760"/>
                <a:ext cx="309960" cy="510480"/>
                <a:chOff x="4908240" y="3245760"/>
                <a:chExt cx="309960" cy="510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9503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9082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218560" y="3245760"/>
                <a:ext cx="309600" cy="510480"/>
                <a:chOff x="5218560" y="3245760"/>
                <a:chExt cx="309600" cy="510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26032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1856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528520" y="3245760"/>
                <a:ext cx="309960" cy="510480"/>
                <a:chOff x="5528520" y="3245760"/>
                <a:chExt cx="309960" cy="510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57064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52852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838840" y="3245760"/>
                <a:ext cx="309600" cy="510480"/>
                <a:chOff x="5838840" y="3245760"/>
                <a:chExt cx="309600" cy="5104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88060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388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148440" y="3245760"/>
                <a:ext cx="701280" cy="510480"/>
                <a:chOff x="6148440" y="3245760"/>
                <a:chExt cx="701280" cy="5104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190560" y="32457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48440" y="32457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200" y="3756600"/>
                <a:ext cx="2731320" cy="510120"/>
                <a:chOff x="7200" y="3756600"/>
                <a:chExt cx="2731320" cy="510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8960" y="375660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200" y="375660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738520" y="3756600"/>
                <a:ext cx="309600" cy="510120"/>
                <a:chOff x="2738520" y="3756600"/>
                <a:chExt cx="309600" cy="5101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8028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73852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048480" y="3756600"/>
                <a:ext cx="309600" cy="510120"/>
                <a:chOff x="3048480" y="3756600"/>
                <a:chExt cx="309600" cy="510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9060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484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358440" y="3756600"/>
                <a:ext cx="309960" cy="510120"/>
                <a:chOff x="3358440" y="3756600"/>
                <a:chExt cx="309960" cy="5101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4005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3584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68400" y="3756600"/>
                <a:ext cx="309600" cy="510120"/>
                <a:chOff x="3668400" y="3756600"/>
                <a:chExt cx="309600" cy="5101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1016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6840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978360" y="3756600"/>
                <a:ext cx="309960" cy="510120"/>
                <a:chOff x="3978360" y="3756600"/>
                <a:chExt cx="309960" cy="5101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02048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7836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288680" y="3756600"/>
                <a:ext cx="309600" cy="510120"/>
                <a:chOff x="4288680" y="3756600"/>
                <a:chExt cx="309600" cy="5101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33044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886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598640" y="3756600"/>
                <a:ext cx="309600" cy="510120"/>
                <a:chOff x="4598640" y="3756600"/>
                <a:chExt cx="309600" cy="510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6407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5986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908240" y="3756600"/>
                <a:ext cx="309960" cy="510120"/>
                <a:chOff x="4908240" y="3756600"/>
                <a:chExt cx="309960" cy="510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9503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9082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218560" y="3756600"/>
                <a:ext cx="309600" cy="510120"/>
                <a:chOff x="5218560" y="3756600"/>
                <a:chExt cx="309600" cy="510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26032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21856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528520" y="3756600"/>
                <a:ext cx="309960" cy="510120"/>
                <a:chOff x="5528520" y="3756600"/>
                <a:chExt cx="309960" cy="510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57064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2852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838840" y="3756600"/>
                <a:ext cx="309600" cy="510120"/>
                <a:chOff x="5838840" y="3756600"/>
                <a:chExt cx="309600" cy="5101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88060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8388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148440" y="3756600"/>
                <a:ext cx="701280" cy="510120"/>
                <a:chOff x="6148440" y="3756600"/>
                <a:chExt cx="701280" cy="5101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190560" y="375660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48440" y="375660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200" y="4266720"/>
                <a:ext cx="2731320" cy="510480"/>
                <a:chOff x="7200" y="4266720"/>
                <a:chExt cx="2731320" cy="510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8960" y="42667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200" y="42667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738520" y="4266720"/>
                <a:ext cx="309600" cy="510480"/>
                <a:chOff x="2738520" y="4266720"/>
                <a:chExt cx="309600" cy="5104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8028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73852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048480" y="4266720"/>
                <a:ext cx="309600" cy="510480"/>
                <a:chOff x="3048480" y="4266720"/>
                <a:chExt cx="309600" cy="510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9060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0484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358440" y="4266720"/>
                <a:ext cx="309960" cy="510480"/>
                <a:chOff x="3358440" y="4266720"/>
                <a:chExt cx="309960" cy="510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4005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584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668400" y="4266720"/>
                <a:ext cx="309600" cy="510480"/>
                <a:chOff x="3668400" y="4266720"/>
                <a:chExt cx="309600" cy="510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71016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6840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978360" y="4266720"/>
                <a:ext cx="309960" cy="510480"/>
                <a:chOff x="3978360" y="4266720"/>
                <a:chExt cx="309960" cy="510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02048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97836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288680" y="4266720"/>
                <a:ext cx="309600" cy="510480"/>
                <a:chOff x="4288680" y="4266720"/>
                <a:chExt cx="309600" cy="510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33044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2886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598640" y="4266720"/>
                <a:ext cx="309600" cy="510480"/>
                <a:chOff x="4598640" y="4266720"/>
                <a:chExt cx="309600" cy="510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6407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86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08240" y="4266720"/>
                <a:ext cx="309960" cy="510480"/>
                <a:chOff x="4908240" y="4266720"/>
                <a:chExt cx="309960" cy="510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9503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082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218560" y="4266720"/>
                <a:ext cx="309600" cy="510480"/>
                <a:chOff x="5218560" y="4266720"/>
                <a:chExt cx="309600" cy="510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26032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21856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528520" y="4266720"/>
                <a:ext cx="309960" cy="510480"/>
                <a:chOff x="5528520" y="4266720"/>
                <a:chExt cx="309960" cy="5104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57064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52852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838840" y="4266720"/>
                <a:ext cx="309600" cy="510480"/>
                <a:chOff x="5838840" y="4266720"/>
                <a:chExt cx="309600" cy="5104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88060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8388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148440" y="4266720"/>
                <a:ext cx="701280" cy="510480"/>
                <a:chOff x="6148440" y="4266720"/>
                <a:chExt cx="701280" cy="510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190560" y="42667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148440" y="42667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7200" y="4777560"/>
                <a:ext cx="2731320" cy="510120"/>
                <a:chOff x="7200" y="4777560"/>
                <a:chExt cx="2731320" cy="5101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8960" y="47775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00" y="47775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738520" y="4777560"/>
                <a:ext cx="309600" cy="510120"/>
                <a:chOff x="2738520" y="4777560"/>
                <a:chExt cx="309600" cy="510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78028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73852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048480" y="4777560"/>
                <a:ext cx="309600" cy="510120"/>
                <a:chOff x="3048480" y="4777560"/>
                <a:chExt cx="309600" cy="5101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9060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484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358440" y="4777560"/>
                <a:ext cx="309960" cy="510120"/>
                <a:chOff x="3358440" y="4777560"/>
                <a:chExt cx="309960" cy="5101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4005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3584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668400" y="4777560"/>
                <a:ext cx="309600" cy="510120"/>
                <a:chOff x="3668400" y="4777560"/>
                <a:chExt cx="309600" cy="5101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71016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66840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978360" y="4777560"/>
                <a:ext cx="309960" cy="510120"/>
                <a:chOff x="3978360" y="4777560"/>
                <a:chExt cx="309960" cy="5101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02048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97836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288680" y="4777560"/>
                <a:ext cx="309600" cy="510120"/>
                <a:chOff x="4288680" y="4777560"/>
                <a:chExt cx="309600" cy="5101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33044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2886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598640" y="4777560"/>
                <a:ext cx="309600" cy="510120"/>
                <a:chOff x="4598640" y="4777560"/>
                <a:chExt cx="309600" cy="5101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6407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5986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908240" y="4777560"/>
                <a:ext cx="309960" cy="510120"/>
                <a:chOff x="4908240" y="4777560"/>
                <a:chExt cx="309960" cy="510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9503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9082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218560" y="4777560"/>
                <a:ext cx="309600" cy="510120"/>
                <a:chOff x="5218560" y="4777560"/>
                <a:chExt cx="309600" cy="5101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26032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21856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528520" y="4777560"/>
                <a:ext cx="309960" cy="510120"/>
                <a:chOff x="5528520" y="4777560"/>
                <a:chExt cx="309960" cy="5101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7064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52852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838840" y="4777560"/>
                <a:ext cx="309600" cy="510120"/>
                <a:chOff x="5838840" y="4777560"/>
                <a:chExt cx="309600" cy="5101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88060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388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148440" y="4777560"/>
                <a:ext cx="701280" cy="510120"/>
                <a:chOff x="6148440" y="4777560"/>
                <a:chExt cx="701280" cy="5101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190560" y="47775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148440" y="47775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200" y="5288040"/>
                <a:ext cx="2731320" cy="510120"/>
                <a:chOff x="7200" y="5288040"/>
                <a:chExt cx="2731320" cy="51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8960" y="528804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00" y="528804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738520" y="5288040"/>
                <a:ext cx="309600" cy="510120"/>
                <a:chOff x="2738520" y="5288040"/>
                <a:chExt cx="309600" cy="510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78028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73852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048480" y="5288040"/>
                <a:ext cx="309600" cy="510120"/>
                <a:chOff x="3048480" y="5288040"/>
                <a:chExt cx="309600" cy="510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9060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484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358440" y="5288040"/>
                <a:ext cx="309960" cy="510120"/>
                <a:chOff x="3358440" y="5288040"/>
                <a:chExt cx="309960" cy="510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4005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584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668400" y="5288040"/>
                <a:ext cx="309600" cy="510120"/>
                <a:chOff x="3668400" y="5288040"/>
                <a:chExt cx="309600" cy="510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71016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66840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978360" y="5288040"/>
                <a:ext cx="309960" cy="510120"/>
                <a:chOff x="3978360" y="5288040"/>
                <a:chExt cx="309960" cy="510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02048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97836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288680" y="5288040"/>
                <a:ext cx="309600" cy="510120"/>
                <a:chOff x="4288680" y="5288040"/>
                <a:chExt cx="309600" cy="510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33044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2886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598640" y="5288040"/>
                <a:ext cx="309600" cy="510120"/>
                <a:chOff x="4598640" y="5288040"/>
                <a:chExt cx="309600" cy="510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6407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986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908240" y="5288040"/>
                <a:ext cx="309960" cy="510120"/>
                <a:chOff x="4908240" y="5288040"/>
                <a:chExt cx="309960" cy="510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9503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082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218560" y="5288040"/>
                <a:ext cx="309600" cy="510120"/>
                <a:chOff x="5218560" y="5288040"/>
                <a:chExt cx="309600" cy="510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26032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21856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528520" y="5288040"/>
                <a:ext cx="309960" cy="510120"/>
                <a:chOff x="5528520" y="5288040"/>
                <a:chExt cx="309960" cy="510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57064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52852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838840" y="5288040"/>
                <a:ext cx="309600" cy="510120"/>
                <a:chOff x="5838840" y="5288040"/>
                <a:chExt cx="309600" cy="510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88060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388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148440" y="5288040"/>
                <a:ext cx="701280" cy="510120"/>
                <a:chOff x="6148440" y="5288040"/>
                <a:chExt cx="701280" cy="510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190560" y="528804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148440" y="528804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7200" y="5798520"/>
                <a:ext cx="2731320" cy="510480"/>
                <a:chOff x="7200" y="5798520"/>
                <a:chExt cx="2731320" cy="510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8960" y="57985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200" y="57985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738520" y="5798520"/>
                <a:ext cx="309600" cy="510480"/>
                <a:chOff x="2738520" y="5798520"/>
                <a:chExt cx="309600" cy="510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78028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73852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048480" y="5798520"/>
                <a:ext cx="309600" cy="510480"/>
                <a:chOff x="3048480" y="5798520"/>
                <a:chExt cx="309600" cy="510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9060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0484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358440" y="5798520"/>
                <a:ext cx="309960" cy="510480"/>
                <a:chOff x="3358440" y="5798520"/>
                <a:chExt cx="309960" cy="510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4005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3584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68400" y="5798520"/>
                <a:ext cx="309600" cy="510480"/>
                <a:chOff x="3668400" y="5798520"/>
                <a:chExt cx="309600" cy="5104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71016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66840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978360" y="5798520"/>
                <a:ext cx="309960" cy="510480"/>
                <a:chOff x="3978360" y="5798520"/>
                <a:chExt cx="309960" cy="510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02048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7836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288680" y="5798520"/>
                <a:ext cx="309600" cy="510480"/>
                <a:chOff x="4288680" y="5798520"/>
                <a:chExt cx="309600" cy="510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33044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2886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598640" y="5798520"/>
                <a:ext cx="309600" cy="510480"/>
                <a:chOff x="4598640" y="5798520"/>
                <a:chExt cx="309600" cy="5104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6407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5986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908240" y="5798520"/>
                <a:ext cx="309960" cy="510480"/>
                <a:chOff x="4908240" y="5798520"/>
                <a:chExt cx="309960" cy="5104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9503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9082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218560" y="5798520"/>
                <a:ext cx="309600" cy="510480"/>
                <a:chOff x="5218560" y="5798520"/>
                <a:chExt cx="309600" cy="5104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26032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1856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528520" y="5798520"/>
                <a:ext cx="309960" cy="510480"/>
                <a:chOff x="5528520" y="5798520"/>
                <a:chExt cx="309960" cy="5104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57064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52852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838840" y="5798520"/>
                <a:ext cx="309600" cy="510480"/>
                <a:chOff x="5838840" y="5798520"/>
                <a:chExt cx="309600" cy="510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88060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8388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148440" y="5798520"/>
                <a:ext cx="701280" cy="510480"/>
                <a:chOff x="6148440" y="5798520"/>
                <a:chExt cx="701280" cy="5104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190560" y="57985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148440" y="57985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200" y="6309360"/>
                <a:ext cx="2731320" cy="510120"/>
                <a:chOff x="7200" y="6309360"/>
                <a:chExt cx="2731320" cy="5101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8960" y="63093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200" y="63093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738520" y="6309360"/>
                <a:ext cx="309600" cy="510120"/>
                <a:chOff x="2738520" y="6309360"/>
                <a:chExt cx="309600" cy="5101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78028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3852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048480" y="6309360"/>
                <a:ext cx="309600" cy="510120"/>
                <a:chOff x="3048480" y="6309360"/>
                <a:chExt cx="309600" cy="5101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9060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0484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358440" y="6309360"/>
                <a:ext cx="309960" cy="510120"/>
                <a:chOff x="3358440" y="6309360"/>
                <a:chExt cx="309960" cy="510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005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3584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668400" y="6309360"/>
                <a:ext cx="309600" cy="510120"/>
                <a:chOff x="3668400" y="6309360"/>
                <a:chExt cx="309600" cy="5101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71016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6840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978360" y="6309360"/>
                <a:ext cx="309960" cy="510120"/>
                <a:chOff x="3978360" y="6309360"/>
                <a:chExt cx="309960" cy="510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02048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7836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88680" y="6309360"/>
                <a:ext cx="309600" cy="510120"/>
                <a:chOff x="4288680" y="6309360"/>
                <a:chExt cx="309600" cy="510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33044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886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598640" y="6309360"/>
                <a:ext cx="309600" cy="510120"/>
                <a:chOff x="4598640" y="6309360"/>
                <a:chExt cx="309600" cy="510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6407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986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908240" y="6309360"/>
                <a:ext cx="309960" cy="510120"/>
                <a:chOff x="4908240" y="6309360"/>
                <a:chExt cx="309960" cy="5101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9503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9082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218560" y="6309360"/>
                <a:ext cx="309600" cy="510120"/>
                <a:chOff x="5218560" y="6309360"/>
                <a:chExt cx="309600" cy="5101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26032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21856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528520" y="6309360"/>
                <a:ext cx="309960" cy="510120"/>
                <a:chOff x="5528520" y="6309360"/>
                <a:chExt cx="309960" cy="5101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57064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52852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838840" y="6309360"/>
                <a:ext cx="309600" cy="510120"/>
                <a:chOff x="5838840" y="6309360"/>
                <a:chExt cx="309600" cy="5101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88060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8388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148440" y="6309360"/>
                <a:ext cx="701280" cy="510120"/>
                <a:chOff x="6148440" y="6309360"/>
                <a:chExt cx="701280" cy="5101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190560" y="63093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148440" y="63093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7200" y="6819840"/>
                <a:ext cx="2731320" cy="510480"/>
                <a:chOff x="7200" y="6819840"/>
                <a:chExt cx="2731320" cy="5104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8960" y="68198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00" y="68198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738520" y="6819840"/>
                <a:ext cx="309600" cy="510480"/>
                <a:chOff x="2738520" y="6819840"/>
                <a:chExt cx="309600" cy="5104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78028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73852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048480" y="6819840"/>
                <a:ext cx="309600" cy="510480"/>
                <a:chOff x="3048480" y="6819840"/>
                <a:chExt cx="309600" cy="5104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9060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0484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358440" y="6819840"/>
                <a:ext cx="309960" cy="510480"/>
                <a:chOff x="3358440" y="6819840"/>
                <a:chExt cx="309960" cy="510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4005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584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668400" y="6819840"/>
                <a:ext cx="309600" cy="510480"/>
                <a:chOff x="3668400" y="6819840"/>
                <a:chExt cx="309600" cy="510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71016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6840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978360" y="6819840"/>
                <a:ext cx="309960" cy="510480"/>
                <a:chOff x="3978360" y="6819840"/>
                <a:chExt cx="309960" cy="5104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02048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97836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288680" y="6819840"/>
                <a:ext cx="309600" cy="510480"/>
                <a:chOff x="4288680" y="6819840"/>
                <a:chExt cx="309600" cy="5104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33044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2886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598640" y="6819840"/>
                <a:ext cx="309600" cy="510480"/>
                <a:chOff x="4598640" y="6819840"/>
                <a:chExt cx="309600" cy="51048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6407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5986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908240" y="6819840"/>
                <a:ext cx="309960" cy="510480"/>
                <a:chOff x="4908240" y="6819840"/>
                <a:chExt cx="309960" cy="510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9503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082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218560" y="6819840"/>
                <a:ext cx="309600" cy="510480"/>
                <a:chOff x="5218560" y="6819840"/>
                <a:chExt cx="309600" cy="5104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26032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1856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528520" y="6819840"/>
                <a:ext cx="309960" cy="510480"/>
                <a:chOff x="5528520" y="6819840"/>
                <a:chExt cx="309960" cy="5104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57064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52852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838840" y="6819840"/>
                <a:ext cx="309600" cy="510480"/>
                <a:chOff x="5838840" y="6819840"/>
                <a:chExt cx="309600" cy="5104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88060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8388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148440" y="6819840"/>
                <a:ext cx="701280" cy="510480"/>
                <a:chOff x="6148440" y="6819840"/>
                <a:chExt cx="701280" cy="5104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190560" y="68198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48440" y="68198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7200" y="7330680"/>
                <a:ext cx="2731320" cy="510120"/>
                <a:chOff x="7200" y="7330680"/>
                <a:chExt cx="2731320" cy="5101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8960" y="73306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200" y="73306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738520" y="7330680"/>
                <a:ext cx="309600" cy="510120"/>
                <a:chOff x="2738520" y="7330680"/>
                <a:chExt cx="309600" cy="5101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8028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3048480" y="7330680"/>
                <a:ext cx="309600" cy="510120"/>
                <a:chOff x="3048480" y="7330680"/>
                <a:chExt cx="309600" cy="5101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9060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484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358440" y="7330680"/>
                <a:ext cx="309960" cy="510120"/>
                <a:chOff x="3358440" y="7330680"/>
                <a:chExt cx="309960" cy="5101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4005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3584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668400" y="7330680"/>
                <a:ext cx="309600" cy="510120"/>
                <a:chOff x="3668400" y="7330680"/>
                <a:chExt cx="309600" cy="5101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71016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66840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978360" y="7330680"/>
                <a:ext cx="309960" cy="510120"/>
                <a:chOff x="3978360" y="7330680"/>
                <a:chExt cx="309960" cy="5101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02048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97836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288680" y="7330680"/>
                <a:ext cx="309600" cy="510120"/>
                <a:chOff x="4288680" y="7330680"/>
                <a:chExt cx="309600" cy="5101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33044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2886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598640" y="7330680"/>
                <a:ext cx="309600" cy="510120"/>
                <a:chOff x="4598640" y="7330680"/>
                <a:chExt cx="309600" cy="5101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6407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5986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908240" y="7330680"/>
                <a:ext cx="309960" cy="510120"/>
                <a:chOff x="4908240" y="7330680"/>
                <a:chExt cx="309960" cy="5101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9503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082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218560" y="7330680"/>
                <a:ext cx="309600" cy="510120"/>
                <a:chOff x="5218560" y="7330680"/>
                <a:chExt cx="309600" cy="5101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26032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21856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528520" y="7330680"/>
                <a:ext cx="309960" cy="510120"/>
                <a:chOff x="5528520" y="7330680"/>
                <a:chExt cx="309960" cy="5101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57064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2852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838840" y="7330680"/>
                <a:ext cx="309600" cy="510120"/>
                <a:chOff x="5838840" y="7330680"/>
                <a:chExt cx="309600" cy="5101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88060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8388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6148440" y="7330680"/>
                <a:ext cx="701280" cy="510120"/>
                <a:chOff x="6148440" y="7330680"/>
                <a:chExt cx="701280" cy="5101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190560" y="73306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148440" y="73306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7200" y="7841160"/>
                <a:ext cx="2731320" cy="510480"/>
                <a:chOff x="7200" y="7841160"/>
                <a:chExt cx="2731320" cy="510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8960" y="78411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200" y="78411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738520" y="7841160"/>
                <a:ext cx="309600" cy="510480"/>
                <a:chOff x="2738520" y="7841160"/>
                <a:chExt cx="309600" cy="510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78028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73852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3048480" y="7841160"/>
                <a:ext cx="309600" cy="510480"/>
                <a:chOff x="3048480" y="7841160"/>
                <a:chExt cx="309600" cy="5104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9060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0484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358440" y="7841160"/>
                <a:ext cx="309960" cy="510480"/>
                <a:chOff x="3358440" y="7841160"/>
                <a:chExt cx="309960" cy="5104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4005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3584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668400" y="7841160"/>
                <a:ext cx="309600" cy="510480"/>
                <a:chOff x="3668400" y="7841160"/>
                <a:chExt cx="309600" cy="5104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71016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6840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978360" y="7841160"/>
                <a:ext cx="309960" cy="510480"/>
                <a:chOff x="3978360" y="7841160"/>
                <a:chExt cx="309960" cy="5104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02048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97836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288680" y="7841160"/>
                <a:ext cx="309600" cy="510480"/>
                <a:chOff x="4288680" y="7841160"/>
                <a:chExt cx="309600" cy="5104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33044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2886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598640" y="7841160"/>
                <a:ext cx="309600" cy="510480"/>
                <a:chOff x="4598640" y="7841160"/>
                <a:chExt cx="309600" cy="5104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6407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5986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908240" y="7841160"/>
                <a:ext cx="309960" cy="510480"/>
                <a:chOff x="4908240" y="7841160"/>
                <a:chExt cx="309960" cy="51048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9503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9082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218560" y="7841160"/>
                <a:ext cx="309600" cy="510480"/>
                <a:chOff x="5218560" y="7841160"/>
                <a:chExt cx="309600" cy="5104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26032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21856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528520" y="7841160"/>
                <a:ext cx="309960" cy="510480"/>
                <a:chOff x="5528520" y="7841160"/>
                <a:chExt cx="309960" cy="5104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57064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52852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838840" y="7841160"/>
                <a:ext cx="309600" cy="510480"/>
                <a:chOff x="5838840" y="7841160"/>
                <a:chExt cx="309600" cy="5104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88060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8388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6148440" y="7841160"/>
                <a:ext cx="701280" cy="510480"/>
                <a:chOff x="6148440" y="7841160"/>
                <a:chExt cx="701280" cy="5104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190560" y="78411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148440" y="78411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7200" y="8351640"/>
                <a:ext cx="2731320" cy="785160"/>
                <a:chOff x="7200" y="8351640"/>
                <a:chExt cx="2731320" cy="7851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8960" y="8351640"/>
                  <a:ext cx="2646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200" y="8351640"/>
                  <a:ext cx="273132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738520" y="8351640"/>
                <a:ext cx="309600" cy="785160"/>
                <a:chOff x="2738520" y="8351640"/>
                <a:chExt cx="309600" cy="78516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78028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73852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3048480" y="8351640"/>
                <a:ext cx="309600" cy="785160"/>
                <a:chOff x="3048480" y="8351640"/>
                <a:chExt cx="309600" cy="7851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9060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0484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358440" y="8351640"/>
                <a:ext cx="309960" cy="785160"/>
                <a:chOff x="3358440" y="8351640"/>
                <a:chExt cx="309960" cy="7851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005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3584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668400" y="8351640"/>
                <a:ext cx="309600" cy="785160"/>
                <a:chOff x="3668400" y="8351640"/>
                <a:chExt cx="309600" cy="7851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71016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66840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978360" y="8351640"/>
                <a:ext cx="309960" cy="785160"/>
                <a:chOff x="3978360" y="8351640"/>
                <a:chExt cx="309960" cy="78516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402048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7836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288680" y="8351640"/>
                <a:ext cx="309600" cy="785160"/>
                <a:chOff x="4288680" y="8351640"/>
                <a:chExt cx="309600" cy="7851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33044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2886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598640" y="8351640"/>
                <a:ext cx="309600" cy="785160"/>
                <a:chOff x="4598640" y="8351640"/>
                <a:chExt cx="309600" cy="7851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6407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986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908240" y="8351640"/>
                <a:ext cx="309960" cy="785160"/>
                <a:chOff x="4908240" y="8351640"/>
                <a:chExt cx="309960" cy="7851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9503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9082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218560" y="8351640"/>
                <a:ext cx="309600" cy="785160"/>
                <a:chOff x="5218560" y="8351640"/>
                <a:chExt cx="309600" cy="78516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26032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21856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528520" y="8351640"/>
                <a:ext cx="309960" cy="785160"/>
                <a:chOff x="5528520" y="8351640"/>
                <a:chExt cx="309960" cy="7851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57064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52852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838840" y="8351640"/>
                <a:ext cx="309600" cy="785160"/>
                <a:chOff x="5838840" y="8351640"/>
                <a:chExt cx="309600" cy="7851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88060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8388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6148440" y="8351640"/>
                <a:ext cx="701280" cy="785160"/>
                <a:chOff x="6148440" y="8351640"/>
                <a:chExt cx="701280" cy="7851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190560" y="8351640"/>
                  <a:ext cx="61668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6 / 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148440" y="8351640"/>
                  <a:ext cx="70128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2:30Z</dcterms:modified>
  <cp:revision>2</cp:revision>
  <dc:subject/>
  <dc:title>Présentation PowerPoint</dc:title>
</cp:coreProperties>
</file>